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7AE3-A731-4A39-B3C5-2D1D36A27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6D8D-C675-4005-9D67-3491BBBF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5B91-098D-4192-BD76-5DF79351C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884E-4C0E-4987-9BCD-D007E1AD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7597-6A19-48D9-9294-7BCF131C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AFC2-638E-4E71-9131-914959AB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F2ED-ADBF-44F1-8B1F-7DE40D5B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8678-735E-4647-A38C-B4E24B87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30F9-5141-47A4-B829-15481373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84A8-C47F-4A75-BD5F-F68F8E90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B923-2AB1-4B5A-B168-530DCB0C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31E0-EF15-4945-B6BD-31F1F679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4720-F73B-4194-BD2A-EF399FF4CCF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0" lang="en-US" sz="4000" spc="-1" strike="noStrike">
                <a:solidFill>
                  <a:srgbClr val="cc0000"/>
                </a:solidFill>
                <a:latin typeface="Verdana"/>
              </a:rPr>
              <a:t>Сумма углов треугольника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800000"/>
                </a:solidFill>
                <a:uFillTx/>
                <a:latin typeface="Arial"/>
              </a:rPr>
              <a:t>Разработчик: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учитель математики МОУ СОШ № 2 города Радужный</a:t>
            </a:r>
            <a:br>
              <a:rPr sz="3000"/>
            </a:br>
            <a:br>
              <a:rPr sz="3000"/>
            </a:br>
            <a:r>
              <a:rPr b="1" i="1" lang="en-US" sz="3000" spc="-1" strike="noStrike">
                <a:solidFill>
                  <a:srgbClr val="000099"/>
                </a:solidFill>
                <a:latin typeface="Arial"/>
              </a:rPr>
              <a:t>Мишурова Любовь Александ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оотношен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между сторонами и углами треугольни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7856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 треугольнике: 1) против большей стороны лежит больший угол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) обратно, против большего угла лежит большая сторон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)АС большая сторона, значит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больш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большей, значит АС большая сторо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Прямая соединительная линия 4"/>
          <p:cNvSpPr/>
          <p:nvPr/>
        </p:nvSpPr>
        <p:spPr>
          <a:xfrm flipV="1">
            <a:off x="928800" y="4143240"/>
            <a:ext cx="1000080" cy="157176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Прямая соединительная линия 8"/>
          <p:cNvSpPr/>
          <p:nvPr/>
        </p:nvSpPr>
        <p:spPr>
          <a:xfrm>
            <a:off x="1928880" y="4143240"/>
            <a:ext cx="3000240" cy="78588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Прямая соединительная линия 10"/>
          <p:cNvSpPr/>
          <p:nvPr/>
        </p:nvSpPr>
        <p:spPr>
          <a:xfrm flipV="1">
            <a:off x="928800" y="4928760"/>
            <a:ext cx="3929040" cy="78588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793080" y="564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Box 12"/>
          <p:cNvSpPr/>
          <p:nvPr/>
        </p:nvSpPr>
        <p:spPr>
          <a:xfrm>
            <a:off x="4857840" y="47862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Box 13"/>
          <p:cNvSpPr/>
          <p:nvPr/>
        </p:nvSpPr>
        <p:spPr>
          <a:xfrm flipH="1">
            <a:off x="1785960" y="3759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ЛЕДСТВ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. В прямоугольном треугольнике гипотенуза больше катет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Если в треугольнике два угла равны, то треугольник равнобедренный( признак равнобедренного треугольника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НЕРАВЕНСТВО ТРЕУГОЛЬ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еорема: Каждая сторона треугольника меньше суммы двух других сторо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ано: треугольник АВ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оказать: АВ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С+В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оказательство: Отложим на продолжении стороны А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Д=ВС. Треугольник ВСД равнобедренный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, а 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реугольнике АВД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ВД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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, значит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ВД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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, то АВ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о АД=АС+СД=АС+СВ, поэтому АВ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С+В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ая соединительная линия 4"/>
          <p:cNvSpPr/>
          <p:nvPr/>
        </p:nvSpPr>
        <p:spPr>
          <a:xfrm>
            <a:off x="4286160" y="3786120"/>
            <a:ext cx="3286080" cy="18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Прямая соединительная линия 6"/>
          <p:cNvSpPr/>
          <p:nvPr/>
        </p:nvSpPr>
        <p:spPr>
          <a:xfrm flipV="1">
            <a:off x="4286160" y="2642760"/>
            <a:ext cx="857520" cy="11430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Прямая соединительная линия 8"/>
          <p:cNvSpPr/>
          <p:nvPr/>
        </p:nvSpPr>
        <p:spPr>
          <a:xfrm>
            <a:off x="5143680" y="2643120"/>
            <a:ext cx="2428560" cy="11430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Прямая соединительная линия 10"/>
          <p:cNvSpPr/>
          <p:nvPr/>
        </p:nvSpPr>
        <p:spPr>
          <a:xfrm>
            <a:off x="5142960" y="2643120"/>
            <a:ext cx="857160" cy="11430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7072200" y="35002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5286240" y="2714760"/>
            <a:ext cx="6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Прямая соединительная линия 16"/>
          <p:cNvSpPr/>
          <p:nvPr/>
        </p:nvSpPr>
        <p:spPr>
          <a:xfrm flipH="1">
            <a:off x="5571720" y="3214800"/>
            <a:ext cx="14292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Прямая соединительная линия 18"/>
          <p:cNvSpPr/>
          <p:nvPr/>
        </p:nvSpPr>
        <p:spPr>
          <a:xfrm flipH="1">
            <a:off x="6500880" y="3716280"/>
            <a:ext cx="1440" cy="2142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20"/>
          <p:cNvSpPr/>
          <p:nvPr/>
        </p:nvSpPr>
        <p:spPr>
          <a:xfrm>
            <a:off x="5078520" y="23572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Box 21"/>
          <p:cNvSpPr/>
          <p:nvPr/>
        </p:nvSpPr>
        <p:spPr>
          <a:xfrm>
            <a:off x="4007880" y="37148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Box 22"/>
          <p:cNvSpPr/>
          <p:nvPr/>
        </p:nvSpPr>
        <p:spPr>
          <a:xfrm>
            <a:off x="5786280" y="3786120"/>
            <a:ext cx="5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Box 23"/>
          <p:cNvSpPr/>
          <p:nvPr/>
        </p:nvSpPr>
        <p:spPr>
          <a:xfrm>
            <a:off x="7500960" y="3643200"/>
            <a:ext cx="49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ЛЕДСТВ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Д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ЛЯ ЛЮБЫХ ТРЁХ ТОЧЕК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А,В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С, не лежащих на одной прямой, справедливы неравенства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АВ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АС+ВС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АС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АВ+ВС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ВС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ВА+АС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142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ЯМОУГОЛЬНЫЕ ТРЕУГОЛЬНИКИ(свойства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66280" y="1714680"/>
            <a:ext cx="800100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Сумма двух острых углов прямоугольного треугольника равна 9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Катет прямоугольного треугольника, лежащий против угла в 3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равен половине гипотенуз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Если катет прямоугольного треугольника равен половине гипотенузы, то угол, лежащий против этого катета, равен 3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Сумма двух острых углов прямоугольного треугольника равна 90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Прямоугольный треугольник 3"/>
          <p:cNvSpPr/>
          <p:nvPr/>
        </p:nvSpPr>
        <p:spPr>
          <a:xfrm>
            <a:off x="900000" y="2276640"/>
            <a:ext cx="3284640" cy="33573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934920" y="200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642960" y="55008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4284720" y="53737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Прямая соединительная линия 10"/>
          <p:cNvSpPr/>
          <p:nvPr/>
        </p:nvSpPr>
        <p:spPr>
          <a:xfrm>
            <a:off x="928800" y="5357880"/>
            <a:ext cx="357120" cy="14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ая соединительная линия 12"/>
          <p:cNvSpPr/>
          <p:nvPr/>
        </p:nvSpPr>
        <p:spPr>
          <a:xfrm flipH="1">
            <a:off x="1283760" y="5359320"/>
            <a:ext cx="1800" cy="2858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3929040" y="1916280"/>
            <a:ext cx="35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+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=90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5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Катет прямоугольного треугольника, лежащего против угла в 30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 равен половине гипотенуз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ссмотрим треугольник АВС, где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=9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=3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=6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. Док-ть, что АС=½ВС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Содержимое 2"/>
          <p:cNvSpPr/>
          <p:nvPr/>
        </p:nvSpPr>
        <p:spPr>
          <a:xfrm>
            <a:off x="285840" y="1643040"/>
            <a:ext cx="8001000" cy="471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Рассмотрим треугольник АВС, где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=9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=3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=6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  Докажем, что АС=½ВС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иложим к треугольнику АВС равный 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еугольник АВД. Получи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еугольник ВСД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=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этому ДС = ВС, но АС= ½ ДС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значит АС = ½ ВС.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Равнобедренный треугольник 4"/>
          <p:cNvSpPr/>
          <p:nvPr/>
        </p:nvSpPr>
        <p:spPr>
          <a:xfrm>
            <a:off x="857160" y="3643200"/>
            <a:ext cx="2500560" cy="2057400"/>
          </a:xfrm>
          <a:prstGeom prst="triangle">
            <a:avLst>
              <a:gd name="adj" fmla="val 53079"/>
            </a:avLst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Прямая соединительная линия 6"/>
          <p:cNvSpPr/>
          <p:nvPr/>
        </p:nvSpPr>
        <p:spPr>
          <a:xfrm>
            <a:off x="2181960" y="3645000"/>
            <a:ext cx="1800" cy="20574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2000160" y="32860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571680" y="542916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3357720" y="54291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Box 10"/>
          <p:cNvSpPr/>
          <p:nvPr/>
        </p:nvSpPr>
        <p:spPr>
          <a:xfrm>
            <a:off x="2071800" y="5715000"/>
            <a:ext cx="7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Box 20"/>
          <p:cNvSpPr/>
          <p:nvPr/>
        </p:nvSpPr>
        <p:spPr>
          <a:xfrm>
            <a:off x="1714680" y="407196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Box 21"/>
          <p:cNvSpPr/>
          <p:nvPr/>
        </p:nvSpPr>
        <p:spPr>
          <a:xfrm>
            <a:off x="2143080" y="40719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Box 22"/>
          <p:cNvSpPr/>
          <p:nvPr/>
        </p:nvSpPr>
        <p:spPr>
          <a:xfrm>
            <a:off x="928800" y="5357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Box 23"/>
          <p:cNvSpPr/>
          <p:nvPr/>
        </p:nvSpPr>
        <p:spPr>
          <a:xfrm>
            <a:off x="2643120" y="52862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Если катет прямоугольного треугольника равен половине гипотенузы, то угол, лежащий против этого катета, равен 30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1571400"/>
            <a:ext cx="89298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ассмотрим прямоугольный треугольник АВС, у которого катет АС равен половине гипотенузы ВС. Докажем, что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ВС=3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иложим к треугольнику АВС равн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ему треугольник АВД, получим равно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торонний треугольник ВСД, гд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ВС=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ВС=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ВС, следовательно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ВС=3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Равнобедренный треугольник 3"/>
          <p:cNvSpPr/>
          <p:nvPr/>
        </p:nvSpPr>
        <p:spPr>
          <a:xfrm>
            <a:off x="428760" y="3357720"/>
            <a:ext cx="2714400" cy="2428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Прямая соединительная линия 5"/>
          <p:cNvSpPr/>
          <p:nvPr/>
        </p:nvSpPr>
        <p:spPr>
          <a:xfrm>
            <a:off x="1784520" y="3357720"/>
            <a:ext cx="1440" cy="243036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Прямая соединительная линия 7"/>
          <p:cNvSpPr/>
          <p:nvPr/>
        </p:nvSpPr>
        <p:spPr>
          <a:xfrm flipH="1">
            <a:off x="1212840" y="5645160"/>
            <a:ext cx="1440" cy="2858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Прямая соединительная линия 9"/>
          <p:cNvSpPr/>
          <p:nvPr/>
        </p:nvSpPr>
        <p:spPr>
          <a:xfrm flipH="1">
            <a:off x="2426760" y="5645160"/>
            <a:ext cx="1800" cy="2858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Прямая соединительная линия 11"/>
          <p:cNvSpPr/>
          <p:nvPr/>
        </p:nvSpPr>
        <p:spPr>
          <a:xfrm>
            <a:off x="857160" y="4714920"/>
            <a:ext cx="28584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Прямая соединительная линия 17"/>
          <p:cNvSpPr/>
          <p:nvPr/>
        </p:nvSpPr>
        <p:spPr>
          <a:xfrm>
            <a:off x="785880" y="4857840"/>
            <a:ext cx="35712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Прямая соединительная линия 19"/>
          <p:cNvSpPr/>
          <p:nvPr/>
        </p:nvSpPr>
        <p:spPr>
          <a:xfrm flipH="1">
            <a:off x="2286000" y="4500720"/>
            <a:ext cx="285840" cy="14256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Прямая соединительная линия 21"/>
          <p:cNvSpPr/>
          <p:nvPr/>
        </p:nvSpPr>
        <p:spPr>
          <a:xfrm flipH="1">
            <a:off x="2357280" y="4571280"/>
            <a:ext cx="28584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Прямая соединительная линия 23"/>
          <p:cNvSpPr/>
          <p:nvPr/>
        </p:nvSpPr>
        <p:spPr>
          <a:xfrm>
            <a:off x="1785960" y="5429160"/>
            <a:ext cx="214200" cy="18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Прямая соединительная линия 25"/>
          <p:cNvSpPr/>
          <p:nvPr/>
        </p:nvSpPr>
        <p:spPr>
          <a:xfrm flipH="1">
            <a:off x="1998720" y="5430960"/>
            <a:ext cx="1440" cy="3571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Box 26"/>
          <p:cNvSpPr/>
          <p:nvPr/>
        </p:nvSpPr>
        <p:spPr>
          <a:xfrm flipH="1">
            <a:off x="1642320" y="30002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Box 27"/>
          <p:cNvSpPr/>
          <p:nvPr/>
        </p:nvSpPr>
        <p:spPr>
          <a:xfrm>
            <a:off x="3143160" y="550080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Box 28"/>
          <p:cNvSpPr/>
          <p:nvPr/>
        </p:nvSpPr>
        <p:spPr>
          <a:xfrm>
            <a:off x="1643040" y="578628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Box 29"/>
          <p:cNvSpPr/>
          <p:nvPr/>
        </p:nvSpPr>
        <p:spPr>
          <a:xfrm>
            <a:off x="142920" y="55720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Box 30"/>
          <p:cNvSpPr/>
          <p:nvPr/>
        </p:nvSpPr>
        <p:spPr>
          <a:xfrm>
            <a:off x="500040" y="542916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Box 31"/>
          <p:cNvSpPr/>
          <p:nvPr/>
        </p:nvSpPr>
        <p:spPr>
          <a:xfrm>
            <a:off x="2724480" y="5429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Box 32"/>
          <p:cNvSpPr/>
          <p:nvPr/>
        </p:nvSpPr>
        <p:spPr>
          <a:xfrm>
            <a:off x="1500120" y="371484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Box 33"/>
          <p:cNvSpPr/>
          <p:nvPr/>
        </p:nvSpPr>
        <p:spPr>
          <a:xfrm>
            <a:off x="1714680" y="3714840"/>
            <a:ext cx="4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Если катеты одного прямоугольного треугольника соответственно равны катетам другого, то такие треугольники равны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0010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Если катет и прилежащий к нему острый угол одного прямоугольного треугольника соответственно равны катету и прилежащему к нему острому углу другого, то такие треугольники равн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lnSpc>
                <a:spcPct val="100000"/>
              </a:lnSpc>
              <a:spcBef>
                <a:spcPts val="11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анные слайды используются при рассмотрении теоретического материала по теме: соотношения между сторонами и углами треугольника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Если гипотенуза и острый угол одного прямоугольника соответственно равны гипотенузе и острому углу другого, то такие треугольники равны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Если гипотенуза и катет одного прямоугольника соответственно равны гипотенузе и катету другого, то такие треугольники равны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Verdana"/>
              </a:rPr>
              <a:t>Сумма углов треугольни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76360" y="981000"/>
            <a:ext cx="6400800" cy="53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Сумма углов треугольника равна 180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А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=18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Line 5"/>
          <p:cNvSpPr/>
          <p:nvPr/>
        </p:nvSpPr>
        <p:spPr>
          <a:xfrm flipV="1">
            <a:off x="2700360" y="3068280"/>
            <a:ext cx="180036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Line 6"/>
          <p:cNvSpPr/>
          <p:nvPr/>
        </p:nvSpPr>
        <p:spPr>
          <a:xfrm>
            <a:off x="4500720" y="3068640"/>
            <a:ext cx="244764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Line 7"/>
          <p:cNvSpPr/>
          <p:nvPr/>
        </p:nvSpPr>
        <p:spPr>
          <a:xfrm>
            <a:off x="2700360" y="5445000"/>
            <a:ext cx="4248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249640" y="5032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4626000" y="2655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6877080" y="5938920"/>
            <a:ext cx="4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ано:    треугольник   АВС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казать: 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А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=180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казательство: а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АС,  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и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;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и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-накрест лежащие.Поэтому 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=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;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=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2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=180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а значит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+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+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=18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Line 4"/>
          <p:cNvSpPr/>
          <p:nvPr/>
        </p:nvSpPr>
        <p:spPr>
          <a:xfrm flipV="1">
            <a:off x="826920" y="2781000"/>
            <a:ext cx="1152720" cy="21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979640" y="2781360"/>
            <a:ext cx="100800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26920" y="4941720"/>
            <a:ext cx="216072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Line 8"/>
          <p:cNvSpPr/>
          <p:nvPr/>
        </p:nvSpPr>
        <p:spPr>
          <a:xfrm>
            <a:off x="971640" y="2637000"/>
            <a:ext cx="2808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665280" y="4889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1763640" y="2421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2843280" y="522936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900000" y="227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97344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2484360" y="472428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1835280" y="3141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1547640" y="2781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2195640" y="2914560"/>
            <a:ext cx="2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НЕШНИЙ УГО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Угол смежный с каким-нибудь углом треугольника называется внешним углом треугольника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Line 4"/>
          <p:cNvSpPr/>
          <p:nvPr/>
        </p:nvSpPr>
        <p:spPr>
          <a:xfrm flipV="1">
            <a:off x="1116000" y="3789000"/>
            <a:ext cx="144000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Line 5"/>
          <p:cNvSpPr/>
          <p:nvPr/>
        </p:nvSpPr>
        <p:spPr>
          <a:xfrm>
            <a:off x="2484360" y="3789360"/>
            <a:ext cx="201636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Line 7"/>
          <p:cNvSpPr/>
          <p:nvPr/>
        </p:nvSpPr>
        <p:spPr>
          <a:xfrm flipV="1">
            <a:off x="1116000" y="5445000"/>
            <a:ext cx="33847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879480" y="551664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2394000" y="3376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356000" y="5516640"/>
            <a:ext cx="4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Line 11"/>
          <p:cNvSpPr/>
          <p:nvPr/>
        </p:nvSpPr>
        <p:spPr>
          <a:xfrm flipV="1">
            <a:off x="4427640" y="5373720"/>
            <a:ext cx="24494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4356000" y="50846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1332000" y="521820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239436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3851280" y="5084640"/>
            <a:ext cx="2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6748560" y="5300640"/>
            <a:ext cx="4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войство внешнего угл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нешний угол треугольника равен сумме двух углов треугольника, не смежных с ним: 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=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+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684360" y="3789000"/>
            <a:ext cx="180000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Line 5"/>
          <p:cNvSpPr/>
          <p:nvPr/>
        </p:nvSpPr>
        <p:spPr>
          <a:xfrm>
            <a:off x="684360" y="558972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Line 6"/>
          <p:cNvSpPr/>
          <p:nvPr/>
        </p:nvSpPr>
        <p:spPr>
          <a:xfrm>
            <a:off x="2484360" y="3789360"/>
            <a:ext cx="129564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20920" y="5537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2320920" y="3232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3689640" y="560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3708360" y="558972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383400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124164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2321280" y="395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311328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ИДЫ ТРЕУГОЛЬНИ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7146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СТРОУГОЛЬНЫЙ ТРЕУГОЛЬНИ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 все углы острые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4"/>
          <p:cNvSpPr/>
          <p:nvPr/>
        </p:nvSpPr>
        <p:spPr>
          <a:xfrm flipH="1">
            <a:off x="2556000" y="3141720"/>
            <a:ext cx="3479760" cy="3095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5"/>
          <p:cNvSpPr/>
          <p:nvPr/>
        </p:nvSpPr>
        <p:spPr>
          <a:xfrm flipV="1" rot="10800000">
            <a:off x="2268000" y="58719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6"/>
          <p:cNvSpPr/>
          <p:nvPr/>
        </p:nvSpPr>
        <p:spPr>
          <a:xfrm flipV="1" rot="10800000">
            <a:off x="4140000" y="2707200"/>
            <a:ext cx="65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7"/>
          <p:cNvSpPr/>
          <p:nvPr/>
        </p:nvSpPr>
        <p:spPr>
          <a:xfrm flipV="1" rot="10800000">
            <a:off x="5940000" y="594720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ИДЫ ТРЕУГОЛЬ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Тупоугольный треугольни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один из углов тупой, два других острые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971640" y="3716280"/>
            <a:ext cx="936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971640" y="3716280"/>
            <a:ext cx="5616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1743120" y="55897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808200" y="328464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588000" y="5373720"/>
            <a:ext cx="5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558972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ИДЫ ТРЕУГОЛЬ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63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ямоугольный треугольни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один из углов прямой, а два других острые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В,АС катет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С гипотенуз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900000" y="3357720"/>
            <a:ext cx="3672000" cy="259236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20920" y="56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92200" y="29242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4572000" y="5734080"/>
            <a:ext cx="2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9"/>
          <p:cNvSpPr/>
          <p:nvPr/>
        </p:nvSpPr>
        <p:spPr>
          <a:xfrm flipV="1">
            <a:off x="1042920" y="558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900000" y="5589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4:31:23Z</dcterms:created>
  <dc:creator>Математика</dc:creator>
  <dc:description/>
  <dc:language>en-US</dc:language>
  <cp:lastModifiedBy>MAMA</cp:lastModifiedBy>
  <dcterms:modified xsi:type="dcterms:W3CDTF">2009-09-06T18:59:01Z</dcterms:modified>
  <cp:revision>46</cp:revision>
  <dc:subject/>
  <dc:title>Сумма углов треугольника</dc:title>
</cp:coreProperties>
</file>